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342019-23A1-4775-B118-4D167A917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1789E-9CD8-496C-8FC9-03CE4EA32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F94C6-5148-426E-B065-8B0535652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0012E-E072-4616-967E-52C3F5077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245B4-65F2-4433-871A-6799E9A35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53A89-C048-482D-B48E-536A0030C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1A862-DE89-4BEA-8D22-3BBB3AE7D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A043C-0E63-4533-93DF-69316CE24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A1C29-5D48-43EB-8DA2-B3301A1FF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D425D-0D60-44B4-84FA-3BD952F06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206DE-88B8-4F55-ADA8-9B02B34DA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72330-8127-4BDE-BEEC-756DEDED75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3629E-7341-47F3-8711-9F61E5BC6E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0000ff"/>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Gender Bias Surve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Michael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in for a big hit!</a:t>
            </a:r>
            <a:endParaRPr b="0" lang="en-US" sz="3200" spc="-1" strike="noStrike">
              <a:solidFill>
                <a:srgbClr val="000000"/>
              </a:solidFill>
              <a:latin typeface="Arial"/>
            </a:endParaRPr>
          </a:p>
        </p:txBody>
      </p:sp>
      <p:pic>
        <p:nvPicPr>
          <p:cNvPr id="43" name="" descr=""/>
          <p:cNvPicPr/>
          <p:nvPr/>
        </p:nvPicPr>
        <p:blipFill>
          <a:blip r:embed="rId1"/>
          <a:stretch/>
        </p:blipFill>
        <p:spPr>
          <a:xfrm>
            <a:off x="6553080" y="5105520"/>
            <a:ext cx="1862280" cy="1752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100000">
              <a:srgbClr val="ffffff"/>
            </a:gs>
          </a:gsLst>
          <a:lin ang="81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y 10 Questions I Asked Were…</a:t>
            </a:r>
            <a:endParaRPr b="0" lang="en-US" sz="4000" spc="-1" strike="noStrike">
              <a:solidFill>
                <a:srgbClr val="000000"/>
              </a:solidFill>
              <a:latin typeface="Arial"/>
            </a:endParaRPr>
          </a:p>
        </p:txBody>
      </p:sp>
      <p:sp>
        <p:nvSpPr>
          <p:cNvPr id="45"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a true man wear pin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a women do a man’s job and be better at i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a man make more money than a wom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 women emotionally stronger than a ma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 man physically stronger than a wom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 women's place in the hom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a man cook better than a wom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 women a man’s mai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a real man cr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a man have more feelings than a wome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ild Survey</a:t>
            </a:r>
            <a:endParaRPr b="0" lang="en-US" sz="4000" spc="-1" strike="noStrike">
              <a:solidFill>
                <a:srgbClr val="000000"/>
              </a:solidFill>
              <a:latin typeface="Arial"/>
            </a:endParaRPr>
          </a:p>
        </p:txBody>
      </p:sp>
      <p:graphicFrame>
        <p:nvGraphicFramePr>
          <p:cNvPr id="47" name=""/>
          <p:cNvGraphicFramePr/>
          <p:nvPr/>
        </p:nvGraphicFramePr>
        <p:xfrm>
          <a:off x="0" y="703440"/>
          <a:ext cx="9067680" cy="5972040"/>
        </p:xfrm>
        <a:graphic>
          <a:graphicData uri="http://schemas.openxmlformats.org/drawingml/2006/table">
            <a:tbl>
              <a:tblPr/>
              <a:tblGrid>
                <a:gridCol w="789120"/>
                <a:gridCol w="788760"/>
                <a:gridCol w="790560"/>
                <a:gridCol w="790560"/>
                <a:gridCol w="789120"/>
                <a:gridCol w="790560"/>
                <a:gridCol w="789120"/>
                <a:gridCol w="792000"/>
                <a:gridCol w="789120"/>
                <a:gridCol w="968400"/>
                <a:gridCol w="990360"/>
              </a:tblGrid>
              <a:tr h="59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4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5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8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4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1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ult Survey </a:t>
            </a:r>
            <a:endParaRPr b="0" lang="en-US" sz="4000" spc="-1" strike="noStrike">
              <a:solidFill>
                <a:srgbClr val="000000"/>
              </a:solidFill>
              <a:latin typeface="Arial"/>
            </a:endParaRPr>
          </a:p>
        </p:txBody>
      </p:sp>
      <p:graphicFrame>
        <p:nvGraphicFramePr>
          <p:cNvPr id="49" name=""/>
          <p:cNvGraphicFramePr/>
          <p:nvPr/>
        </p:nvGraphicFramePr>
        <p:xfrm>
          <a:off x="0" y="738360"/>
          <a:ext cx="9144000" cy="6119640"/>
        </p:xfrm>
        <a:graphic>
          <a:graphicData uri="http://schemas.openxmlformats.org/drawingml/2006/table">
            <a:tbl>
              <a:tblPr/>
              <a:tblGrid>
                <a:gridCol w="830160"/>
                <a:gridCol w="831960"/>
                <a:gridCol w="830160"/>
                <a:gridCol w="831960"/>
                <a:gridCol w="831960"/>
                <a:gridCol w="831600"/>
                <a:gridCol w="831960"/>
                <a:gridCol w="831960"/>
                <a:gridCol w="830160"/>
                <a:gridCol w="747720"/>
                <a:gridCol w="914400"/>
              </a:tblGrid>
              <a:tr h="544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4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4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4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4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4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4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4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4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3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1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3399"/>
            </a:gs>
          </a:gsLst>
          <a:lin ang="108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der Bias Survey Result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Surve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I was surveying children my age I found out that they  didn’t know what I was talking about.  But half a them did and so that tells me that a lot of kids haven’t thought about this.</a:t>
            </a:r>
            <a:endParaRPr b="0" lang="en-US" sz="2800" spc="-1" strike="noStrike">
              <a:solidFill>
                <a:srgbClr val="000000"/>
              </a:solidFill>
              <a:latin typeface="Arial"/>
            </a:endParaRPr>
          </a:p>
        </p:txBody>
      </p:sp>
      <p:sp>
        <p:nvSpPr>
          <p:cNvPr id="5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ult Surve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I was surveying adults they knew what I was talking about, but the kind of got confused with my questions. Now I know that adults understand gender bi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part II</a:t>
            </a:r>
            <a:endParaRPr b="0" lang="en-US" sz="4400" spc="-1" strike="noStrike">
              <a:solidFill>
                <a:srgbClr val="000000"/>
              </a:solidFill>
              <a:latin typeface="Arial"/>
            </a:endParaRPr>
          </a:p>
        </p:txBody>
      </p:sp>
      <p:sp>
        <p:nvSpPr>
          <p:cNvPr id="54" name="PlaceHolder 2"/>
          <p:cNvSpPr>
            <a:spLocks noGrp="1"/>
          </p:cNvSpPr>
          <p:nvPr>
            <p:ph/>
          </p:nvPr>
        </p:nvSpPr>
        <p:spPr>
          <a:xfrm>
            <a:off x="457200" y="1371600"/>
            <a:ext cx="8229600" cy="4983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1.Do stereotypes affect how we see and interact with others? I don’t believe it does because we are all humans and we are all the sam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2.Is using stereotypes to judge people harmful?  Yes it is because nobody should judge people by how they lo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3.What did you find out about yourself?</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 found out about myself was that I should judge people just by how they lo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4.Did you find biases that you didn’t know you and, and what were they?  I didn’t find any biases in me so I cant tell you what they we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5.What can we do now to help end gender bias? We can stop gender bias by telling people to not judge them by how they look but by seeing how they are on the inside and give them a chan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3T15:25:14Z</dcterms:created>
  <dc:creator>Vanessa Collier</dc:creator>
  <dc:description/>
  <dc:language>en-US</dc:language>
  <cp:lastModifiedBy>Vanessa Collier</cp:lastModifiedBy>
  <dcterms:modified xsi:type="dcterms:W3CDTF">2010-05-04T18:14:14Z</dcterms:modified>
  <cp:revision>9</cp:revision>
  <dc:subject/>
  <dc:title>My Gender Bias Survey</dc:title>
</cp:coreProperties>
</file>